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BFE0-E313-4481-A0CD-649BE9373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AA25-ACC2-45A4-9AFE-690B3EB7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0047-A6E8-4F35-BA25-4F415716F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A2FE-9264-4326-B4A2-90947F4D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3B77-DBC9-4C6E-A473-06FA7087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562A-6912-4DF9-9FEB-4F73C797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EDB-3FA0-4EAB-9C1E-63AA76637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6061-F324-4A53-8670-91B76C03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CAC8-AF79-4B3A-804E-0582FB43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00A4-0B15-42D6-8AC3-EE61B3CD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2B44-45BD-4AE9-98C6-52AE1E086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6CCB-B4AC-4EE6-BC65-045AD74BB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C6D9-1FD6-4B88-8C2D-9F17CD78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EF4F-813C-4664-80AE-CDE53C22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1FE-3062-4D3C-A32D-CAE26F9B5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7EFF-A0E6-4CC8-9578-74D969B1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035A-C419-4E02-9529-803554662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F656-68AC-4D19-A7D2-4212876D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52F-B1F9-465A-A625-936C9463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B06B-A5A3-4DE1-9209-7FDCE137D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73BC-F16E-4158-AD7F-ED2D0F8E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3644-7045-4437-B94A-ED6F1C9F7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A510-BCDE-491D-AFF1-83B74D2F1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F2F7-150B-4B10-9A80-4E7019E9C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A5A1-2860-4D6D-862D-22B8E11B8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01A9-C43A-4F43-8FAC-0E931D132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24B2-B695-4684-A3EA-7767C64C2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FCA7-2CD8-42AD-A11D-83184353B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80A6-F8F0-4715-B410-41BACF65A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7EAD-B3A0-453B-A865-93BA6AC3D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0495-4BF0-4108-99C9-A59B34F05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7D1D-0581-4BE1-8DD3-F040FCCA7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DA57-2CEC-4905-BDED-4B63305CB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24C7-9FD8-470D-AD77-E25FFC57D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260280"/>
            <a:ext cx="322200" cy="4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1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4400" y="6858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d18bff"/>
              </a:gs>
              <a:gs pos="100000">
                <a:srgbClr val="99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990360"/>
            <a:ext cx="8683560" cy="460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B4C6-EF84-410F-AD4F-0E6C3270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4114800" y="5334120"/>
            <a:ext cx="895320" cy="636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558720" y="2625840"/>
            <a:ext cx="32220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25480" y="2625840"/>
            <a:ext cx="328680" cy="474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1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66640" y="3048120"/>
            <a:ext cx="422280" cy="47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36720" y="3048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52280" y="2975040"/>
            <a:ext cx="560520" cy="422280"/>
          </a:xfrm>
          <a:prstGeom prst="rect">
            <a:avLst/>
          </a:prstGeom>
          <a:gradFill rotWithShape="0">
            <a:gsLst>
              <a:gs pos="0">
                <a:srgbClr val="d18bff"/>
              </a:gs>
              <a:gs pos="100000">
                <a:srgbClr val="99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787320" y="2438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8076960" y="65527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0398-7CF7-434B-9461-29DF13250A6B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Backtracking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0FEB-23BB-470D-BD43-3ED3DE498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Real and virtual tre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type of data structure called 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e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diagram the sequence of choices we make, the diagram looks like 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ct, we did just this a couple of slide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cktracking algorithm “sweeps out a tree” in “problem sp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027D-7AE1-44F6-A453-76E4A04D3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backtracking algorith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tracking is really quite simple--we “explore” each node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explore” node 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1.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If N is a goal node, return “succ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2.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If N is a leaf node, return “fail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3.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For each child C of 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3.1.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Explor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3.1.1.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If C was successful, return “succ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4.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Return “fail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ACA-7BA0-41B8-84F8-C78672EC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Full example: Map coloring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ur Color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 that any map on a plane can be colored with no more than four colors, so that no two countries with a common border are the sam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st maps, finding a legal coloring is e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maps, it can be fairly difficult to find a legal col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evelop a complete Java program to solve thi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8B0-8FFD-46C5-9630-293FB0A6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Data structur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a data structure that is easy to work with, and supp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 a color for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untry, finding all adjacent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do this with two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ray of “colors”, wher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countryColor[i]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lor of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gged array of adjacent countries, where</a:t>
            </a:r>
            <a:r>
              <a:rPr b="0" lang="en-US" sz="2400" spc="-1" strike="noStrike">
                <a:solidFill>
                  <a:srgbClr val="33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map[i][j]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ry adjacent to country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map[5][3]==8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 th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ntry adjacent to country 5 is country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CBB8-F5E1-492B-A32C-512595420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8960" y="342720"/>
            <a:ext cx="779292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reating the map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293" name="Group 29"/>
          <p:cNvGrpSpPr/>
          <p:nvPr/>
        </p:nvGrpSpPr>
        <p:grpSpPr>
          <a:xfrm>
            <a:off x="5486400" y="1371600"/>
            <a:ext cx="2362320" cy="1828800"/>
            <a:chOff x="5486400" y="1371600"/>
            <a:chExt cx="2362320" cy="1828800"/>
          </a:xfrm>
        </p:grpSpPr>
        <p:grpSp>
          <p:nvGrpSpPr>
            <p:cNvPr id="294" name="Group 26"/>
            <p:cNvGrpSpPr/>
            <p:nvPr/>
          </p:nvGrpSpPr>
          <p:grpSpPr>
            <a:xfrm>
              <a:off x="5486400" y="1371600"/>
              <a:ext cx="2362320" cy="1828800"/>
              <a:chOff x="5486400" y="1371600"/>
              <a:chExt cx="2362320" cy="1828800"/>
            </a:xfrm>
          </p:grpSpPr>
          <p:sp>
            <p:nvSpPr>
              <p:cNvPr id="295" name="Freeform 5"/>
              <p:cNvSpPr/>
              <p:nvPr/>
            </p:nvSpPr>
            <p:spPr>
              <a:xfrm>
                <a:off x="5824800" y="1371600"/>
                <a:ext cx="2023920" cy="1393560"/>
              </a:xfrm>
              <a:custGeom>
                <a:avLst/>
                <a:gdLst>
                  <a:gd name="textAreaLeft" fmla="*/ 0 w 2023920"/>
                  <a:gd name="textAreaRight" fmla="*/ 2024280 w 2023920"/>
                  <a:gd name="textAreaTop" fmla="*/ 0 h 1393560"/>
                  <a:gd name="textAreaBottom" fmla="*/ 1393920 h 1393560"/>
                </a:gdLst>
                <a:ahLst/>
                <a:rect l="textAreaLeft" t="textAreaTop" r="textAreaRight" b="textAreaBottom"/>
                <a:pathLst>
                  <a:path w="1152" h="768">
                    <a:moveTo>
                      <a:pt x="0" y="0"/>
                    </a:moveTo>
                    <a:lnTo>
                      <a:pt x="0" y="240"/>
                    </a:lnTo>
                    <a:lnTo>
                      <a:pt x="864" y="240"/>
                    </a:lnTo>
                    <a:lnTo>
                      <a:pt x="864" y="768"/>
                    </a:lnTo>
                    <a:lnTo>
                      <a:pt x="1152" y="768"/>
                    </a:lnTo>
                    <a:lnTo>
                      <a:pt x="11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7005600" y="1806480"/>
                <a:ext cx="336600" cy="609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583320" y="2243160"/>
                <a:ext cx="758880" cy="522000"/>
              </a:xfrm>
              <a:custGeom>
                <a:avLst/>
                <a:gdLst>
                  <a:gd name="textAreaLeft" fmla="*/ 0 w 758880"/>
                  <a:gd name="textAreaRight" fmla="*/ 759240 w 7588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432" y="288"/>
                    </a:moveTo>
                    <a:lnTo>
                      <a:pt x="0" y="288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6161040" y="2068560"/>
                <a:ext cx="844560" cy="34740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480" h="192">
                    <a:moveTo>
                      <a:pt x="240" y="96"/>
                    </a:moveTo>
                    <a:lnTo>
                      <a:pt x="336" y="96"/>
                    </a:lnTo>
                    <a:lnTo>
                      <a:pt x="336" y="192"/>
                    </a:lnTo>
                    <a:lnTo>
                      <a:pt x="480" y="192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240" y="192"/>
                    </a:lnTo>
                    <a:lnTo>
                      <a:pt x="24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5908680" y="1981080"/>
                <a:ext cx="1096920" cy="60948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624" h="336">
                    <a:moveTo>
                      <a:pt x="624" y="48"/>
                    </a:moveTo>
                    <a:lnTo>
                      <a:pt x="62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384" y="336"/>
                    </a:lnTo>
                    <a:lnTo>
                      <a:pt x="384" y="240"/>
                    </a:lnTo>
                    <a:lnTo>
                      <a:pt x="144" y="240"/>
                    </a:lnTo>
                    <a:lnTo>
                      <a:pt x="144" y="48"/>
                    </a:lnTo>
                    <a:lnTo>
                      <a:pt x="6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5486400" y="1371600"/>
                <a:ext cx="2362320" cy="182880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344" h="1008">
                    <a:moveTo>
                      <a:pt x="192" y="0"/>
                    </a:moveTo>
                    <a:lnTo>
                      <a:pt x="192" y="240"/>
                    </a:lnTo>
                    <a:lnTo>
                      <a:pt x="864" y="240"/>
                    </a:lnTo>
                    <a:lnTo>
                      <a:pt x="864" y="336"/>
                    </a:lnTo>
                    <a:lnTo>
                      <a:pt x="240" y="336"/>
                    </a:lnTo>
                    <a:lnTo>
                      <a:pt x="240" y="864"/>
                    </a:lnTo>
                    <a:lnTo>
                      <a:pt x="1344" y="864"/>
                    </a:lnTo>
                    <a:lnTo>
                      <a:pt x="1344" y="1008"/>
                    </a:lnTo>
                    <a:lnTo>
                      <a:pt x="0" y="1008"/>
                    </a:lnTo>
                    <a:lnTo>
                      <a:pt x="0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5908680" y="2590560"/>
                <a:ext cx="1940040" cy="347760"/>
              </a:xfrm>
              <a:custGeom>
                <a:avLst/>
                <a:gdLst>
                  <a:gd name="textAreaLeft" fmla="*/ 0 w 1940040"/>
                  <a:gd name="textAreaRight" fmla="*/ 1940400 w 194004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104" h="192">
                    <a:moveTo>
                      <a:pt x="1104" y="192"/>
                    </a:moveTo>
                    <a:lnTo>
                      <a:pt x="1104" y="96"/>
                    </a:lnTo>
                    <a:lnTo>
                      <a:pt x="384" y="96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1104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7"/>
            <p:cNvGrpSpPr/>
            <p:nvPr/>
          </p:nvGrpSpPr>
          <p:grpSpPr>
            <a:xfrm>
              <a:off x="5486400" y="1409760"/>
              <a:ext cx="1855800" cy="1530360"/>
              <a:chOff x="5486400" y="1409760"/>
              <a:chExt cx="1855800" cy="1530360"/>
            </a:xfrm>
          </p:grpSpPr>
          <p:sp>
            <p:nvSpPr>
              <p:cNvPr id="303" name="Text Box 12"/>
              <p:cNvSpPr/>
              <p:nvPr/>
            </p:nvSpPr>
            <p:spPr>
              <a:xfrm>
                <a:off x="5486400" y="1409760"/>
                <a:ext cx="33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13"/>
              <p:cNvSpPr/>
              <p:nvPr/>
            </p:nvSpPr>
            <p:spPr>
              <a:xfrm>
                <a:off x="5908680" y="140976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14"/>
              <p:cNvSpPr/>
              <p:nvPr/>
            </p:nvSpPr>
            <p:spPr>
              <a:xfrm>
                <a:off x="7002360" y="1757160"/>
                <a:ext cx="33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5"/>
              <p:cNvSpPr/>
              <p:nvPr/>
            </p:nvSpPr>
            <p:spPr>
              <a:xfrm>
                <a:off x="5824440" y="193176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 Box 16"/>
              <p:cNvSpPr/>
              <p:nvPr/>
            </p:nvSpPr>
            <p:spPr>
              <a:xfrm>
                <a:off x="6161040" y="2019240"/>
                <a:ext cx="33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7"/>
              <p:cNvSpPr/>
              <p:nvPr/>
            </p:nvSpPr>
            <p:spPr>
              <a:xfrm>
                <a:off x="6583320" y="23666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18"/>
              <p:cNvSpPr/>
              <p:nvPr/>
            </p:nvSpPr>
            <p:spPr>
              <a:xfrm>
                <a:off x="5992920" y="25412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0" name="Text Box 25"/>
          <p:cNvSpPr/>
          <p:nvPr/>
        </p:nvSpPr>
        <p:spPr>
          <a:xfrm>
            <a:off x="762120" y="190512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nt map[][]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void createMap() {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 = new int[7][]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0] = new int[] { 1, 4, 2, 5 }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1] = new int[] { 0, 4, 6, 5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2] = new int[] { 0, 4, 3, 6, 5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3] = new int[] { 2, 4, 6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4] = new int[] { 0, 1, 6, 3, 2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5] = new int[] { 2, 6, 1, 0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6] = new int[] { 2, 3, 4, 1, 5 }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55E-A1DF-4EDF-85DD-D66277693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etting the initial color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14400" y="16765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NONE = 0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RED = 1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YELLOW = 2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GREEN = 3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BLUE = 4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nt mapColors[] = { NONE, NONE, NONE, NONE,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                          NONE, NONE, NONE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384-8D5B-4C83-8343-3EDF505B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main progra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6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enclosing class i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Colored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ColoredMap m = new ColoredMa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m.createMa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boolean result = m.explore(0, R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System.out.println(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m.printMa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402E-8729-4FDC-B173-EA382E919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backtracking method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oolean explore(int country, int color)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f (country &gt;= map.length) 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f (okToColor(country, color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mapColors[country] =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for (int i = RED; i &lt;= BLUE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(explore(country + 1, i)) 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1826-95B1-41AF-B6A0-8090BF3A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hecking if a color can be used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boolean okToColor(int country, int color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for (int i = 0; i &lt; map[country].length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nt ithAdjCountry = map[country]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f (mapColors[ithAdjCountry] == color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B147-9070-46A3-AC37-B34E113C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Printing the result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80880" y="1447920"/>
            <a:ext cx="830592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void printMap() {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for (int i = 0; i &lt; mapColors.length; i++) {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System.out.print("map[" + i + "] is ")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switch (mapColors[i]) {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NONE:    System.out.println("none"); 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RED:       System.out.println("red");   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YELLOW: System.out.println("yellow");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GREEN:   System.out.println("green");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BLUE:     System.out.println("blue");   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}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}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D1C6-B14A-44EF-AD9C-340180664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030"/>
          <p:cNvGrpSpPr/>
          <p:nvPr/>
        </p:nvGrpSpPr>
        <p:grpSpPr>
          <a:xfrm>
            <a:off x="380880" y="2362320"/>
            <a:ext cx="3962520" cy="380880"/>
            <a:chOff x="380880" y="2362320"/>
            <a:chExt cx="3962520" cy="380880"/>
          </a:xfrm>
        </p:grpSpPr>
        <p:sp>
          <p:nvSpPr>
            <p:cNvPr id="103" name="Rectangle 1028"/>
            <p:cNvSpPr/>
            <p:nvPr/>
          </p:nvSpPr>
          <p:spPr>
            <a:xfrm>
              <a:off x="380880" y="2362320"/>
              <a:ext cx="3962520" cy="380880"/>
            </a:xfrm>
            <a:prstGeom prst="rect">
              <a:avLst/>
            </a:prstGeom>
            <a:solidFill>
              <a:srgbClr val="cce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029"/>
            <p:cNvSpPr/>
            <p:nvPr/>
          </p:nvSpPr>
          <p:spPr>
            <a:xfrm>
              <a:off x="457200" y="24382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A short list of categori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ypes we will consider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recursiv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tracking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and conquer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y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 and bou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950-F15E-40EC-8BCC-9E2D2490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Recap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ent through all the countries recursively, starting with country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country we had to decide a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d to be different from all adjacent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uld not find a legal color, we reported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uld find a color, we used it and recurred with the next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ran out of countries (colored them all), we reporte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returned from the topmost call, we wer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6158-BC05-4BE1-9D36-F54CAA60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27B-49E0-4CAC-A761-6B4CC8082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Backtracking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you have to make a seri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ision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ng var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ice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know what to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cision leads to a new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equence of choices (possibly more than one) may be a solution to you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cktra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ethodical way of trying out various sequences of decisions, until you find one that “work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297-665D-4285-8E53-36EB095B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olving a maz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maze, find a path from start to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intersection, you have to decide between three or fewer cho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stra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choose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oice leads to another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equences of choices may (or may not) lead to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ypes of maze problem can be solved with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2AD-709A-4CCB-9A01-6F56107F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oloring a map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sh to color a map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ore than four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, yellow, green, 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acent countries must be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choose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oice leads to another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equences of choices may (or may not) lead to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oloring problems can be solved with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5638680" y="1523880"/>
            <a:ext cx="2133720" cy="1600200"/>
            <a:chOff x="5638680" y="1523880"/>
            <a:chExt cx="2133720" cy="1600200"/>
          </a:xfrm>
        </p:grpSpPr>
        <p:sp>
          <p:nvSpPr>
            <p:cNvPr id="117" name="Freeform 4"/>
            <p:cNvSpPr/>
            <p:nvPr/>
          </p:nvSpPr>
          <p:spPr>
            <a:xfrm>
              <a:off x="5943600" y="1523880"/>
              <a:ext cx="1828800" cy="121932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52" h="768">
                  <a:moveTo>
                    <a:pt x="0" y="0"/>
                  </a:moveTo>
                  <a:lnTo>
                    <a:pt x="0" y="240"/>
                  </a:lnTo>
                  <a:lnTo>
                    <a:pt x="864" y="240"/>
                  </a:lnTo>
                  <a:lnTo>
                    <a:pt x="864" y="768"/>
                  </a:lnTo>
                  <a:lnTo>
                    <a:pt x="1152" y="768"/>
                  </a:lnTo>
                  <a:lnTo>
                    <a:pt x="1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ff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7010280" y="1905120"/>
              <a:ext cx="30492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>
              <a:off x="6629400" y="2286000"/>
              <a:ext cx="685800" cy="4572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32" h="288">
                  <a:moveTo>
                    <a:pt x="432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432" y="96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7"/>
            <p:cNvSpPr/>
            <p:nvPr/>
          </p:nvSpPr>
          <p:spPr>
            <a:xfrm>
              <a:off x="6248520" y="2133720"/>
              <a:ext cx="761760" cy="30456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80" h="192">
                  <a:moveTo>
                    <a:pt x="240" y="96"/>
                  </a:moveTo>
                  <a:lnTo>
                    <a:pt x="336" y="96"/>
                  </a:lnTo>
                  <a:lnTo>
                    <a:pt x="336" y="192"/>
                  </a:lnTo>
                  <a:lnTo>
                    <a:pt x="480" y="192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40" y="192"/>
                  </a:lnTo>
                  <a:lnTo>
                    <a:pt x="240" y="9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"/>
            <p:cNvSpPr/>
            <p:nvPr/>
          </p:nvSpPr>
          <p:spPr>
            <a:xfrm>
              <a:off x="6019920" y="2057400"/>
              <a:ext cx="990360" cy="53352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24" h="336">
                  <a:moveTo>
                    <a:pt x="624" y="48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384" y="336"/>
                  </a:lnTo>
                  <a:lnTo>
                    <a:pt x="384" y="240"/>
                  </a:lnTo>
                  <a:lnTo>
                    <a:pt x="144" y="240"/>
                  </a:lnTo>
                  <a:lnTo>
                    <a:pt x="144" y="48"/>
                  </a:lnTo>
                  <a:lnTo>
                    <a:pt x="624" y="48"/>
                  </a:lnTo>
                  <a:close/>
                </a:path>
              </a:pathLst>
            </a:custGeom>
            <a:solidFill>
              <a:srgbClr val="3300ff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9"/>
            <p:cNvSpPr/>
            <p:nvPr/>
          </p:nvSpPr>
          <p:spPr>
            <a:xfrm>
              <a:off x="5638680" y="1523880"/>
              <a:ext cx="2133720" cy="16002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4" h="1008">
                  <a:moveTo>
                    <a:pt x="192" y="0"/>
                  </a:moveTo>
                  <a:lnTo>
                    <a:pt x="192" y="240"/>
                  </a:lnTo>
                  <a:lnTo>
                    <a:pt x="864" y="240"/>
                  </a:lnTo>
                  <a:lnTo>
                    <a:pt x="864" y="336"/>
                  </a:lnTo>
                  <a:lnTo>
                    <a:pt x="240" y="336"/>
                  </a:lnTo>
                  <a:lnTo>
                    <a:pt x="240" y="864"/>
                  </a:lnTo>
                  <a:lnTo>
                    <a:pt x="1344" y="864"/>
                  </a:lnTo>
                  <a:lnTo>
                    <a:pt x="1344" y="1008"/>
                  </a:lnTo>
                  <a:lnTo>
                    <a:pt x="0" y="1008"/>
                  </a:lnTo>
                  <a:lnTo>
                    <a:pt x="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"/>
            <p:cNvSpPr/>
            <p:nvPr/>
          </p:nvSpPr>
          <p:spPr>
            <a:xfrm>
              <a:off x="6019920" y="2590920"/>
              <a:ext cx="1752480" cy="30456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104" h="192">
                  <a:moveTo>
                    <a:pt x="1104" y="192"/>
                  </a:moveTo>
                  <a:lnTo>
                    <a:pt x="1104" y="96"/>
                  </a:lnTo>
                  <a:lnTo>
                    <a:pt x="384" y="96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104" y="19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4FDF-D2DE-47A6-920F-0B8CE2A71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olving a puzzl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puzzle, all holes but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white p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jump over one p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ed pegs are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 is to remove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last 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jump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oice leads to another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equences of choices may (or may not) lead to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kinds of puzzle can be solved with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60"/>
          <p:cNvGrpSpPr/>
          <p:nvPr/>
        </p:nvGrpSpPr>
        <p:grpSpPr>
          <a:xfrm>
            <a:off x="5562720" y="1752480"/>
            <a:ext cx="2136600" cy="2133720"/>
            <a:chOff x="5562720" y="1752480"/>
            <a:chExt cx="2136600" cy="2133720"/>
          </a:xfrm>
        </p:grpSpPr>
        <p:sp>
          <p:nvSpPr>
            <p:cNvPr id="128" name="Rectangle 6"/>
            <p:cNvSpPr/>
            <p:nvPr/>
          </p:nvSpPr>
          <p:spPr>
            <a:xfrm>
              <a:off x="6248520" y="2438280"/>
              <a:ext cx="761760" cy="762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6248520" y="3200400"/>
              <a:ext cx="761760" cy="685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248520" y="1752480"/>
              <a:ext cx="761760" cy="685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562720" y="2438280"/>
              <a:ext cx="685800" cy="762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7010280" y="2438280"/>
              <a:ext cx="685800" cy="762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2"/>
            <p:cNvSpPr/>
            <p:nvPr/>
          </p:nvSpPr>
          <p:spPr>
            <a:xfrm>
              <a:off x="5638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3"/>
            <p:cNvSpPr/>
            <p:nvPr/>
          </p:nvSpPr>
          <p:spPr>
            <a:xfrm>
              <a:off x="56386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58672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56386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58672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58672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60958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9"/>
            <p:cNvSpPr/>
            <p:nvPr/>
          </p:nvSpPr>
          <p:spPr>
            <a:xfrm>
              <a:off x="60958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0"/>
            <p:cNvSpPr/>
            <p:nvPr/>
          </p:nvSpPr>
          <p:spPr>
            <a:xfrm>
              <a:off x="63244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1"/>
            <p:cNvSpPr/>
            <p:nvPr/>
          </p:nvSpPr>
          <p:spPr>
            <a:xfrm>
              <a:off x="60958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22"/>
            <p:cNvSpPr/>
            <p:nvPr/>
          </p:nvSpPr>
          <p:spPr>
            <a:xfrm>
              <a:off x="63244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6324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4"/>
            <p:cNvSpPr/>
            <p:nvPr/>
          </p:nvSpPr>
          <p:spPr>
            <a:xfrm>
              <a:off x="65530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5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67816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65530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28"/>
            <p:cNvSpPr/>
            <p:nvPr/>
          </p:nvSpPr>
          <p:spPr>
            <a:xfrm>
              <a:off x="67816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29"/>
            <p:cNvSpPr/>
            <p:nvPr/>
          </p:nvSpPr>
          <p:spPr>
            <a:xfrm>
              <a:off x="6781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0"/>
            <p:cNvSpPr/>
            <p:nvPr/>
          </p:nvSpPr>
          <p:spPr>
            <a:xfrm>
              <a:off x="70102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1"/>
            <p:cNvSpPr/>
            <p:nvPr/>
          </p:nvSpPr>
          <p:spPr>
            <a:xfrm>
              <a:off x="70102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2"/>
            <p:cNvSpPr/>
            <p:nvPr/>
          </p:nvSpPr>
          <p:spPr>
            <a:xfrm>
              <a:off x="72388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3"/>
            <p:cNvSpPr/>
            <p:nvPr/>
          </p:nvSpPr>
          <p:spPr>
            <a:xfrm>
              <a:off x="70102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>
              <a:off x="72388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5"/>
            <p:cNvSpPr/>
            <p:nvPr/>
          </p:nvSpPr>
          <p:spPr>
            <a:xfrm>
              <a:off x="72388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6"/>
            <p:cNvSpPr/>
            <p:nvPr/>
          </p:nvSpPr>
          <p:spPr>
            <a:xfrm>
              <a:off x="74674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7"/>
            <p:cNvSpPr/>
            <p:nvPr/>
          </p:nvSpPr>
          <p:spPr>
            <a:xfrm>
              <a:off x="74674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38"/>
            <p:cNvSpPr/>
            <p:nvPr/>
          </p:nvSpPr>
          <p:spPr>
            <a:xfrm>
              <a:off x="7467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39"/>
            <p:cNvSpPr/>
            <p:nvPr/>
          </p:nvSpPr>
          <p:spPr>
            <a:xfrm>
              <a:off x="6324480" y="2057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40"/>
            <p:cNvSpPr/>
            <p:nvPr/>
          </p:nvSpPr>
          <p:spPr>
            <a:xfrm>
              <a:off x="6324480" y="2286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41"/>
            <p:cNvSpPr/>
            <p:nvPr/>
          </p:nvSpPr>
          <p:spPr>
            <a:xfrm>
              <a:off x="63244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42"/>
            <p:cNvSpPr/>
            <p:nvPr/>
          </p:nvSpPr>
          <p:spPr>
            <a:xfrm>
              <a:off x="65530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43"/>
            <p:cNvSpPr/>
            <p:nvPr/>
          </p:nvSpPr>
          <p:spPr>
            <a:xfrm>
              <a:off x="6553080" y="2057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44"/>
            <p:cNvSpPr/>
            <p:nvPr/>
          </p:nvSpPr>
          <p:spPr>
            <a:xfrm>
              <a:off x="6781680" y="2057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45"/>
            <p:cNvSpPr/>
            <p:nvPr/>
          </p:nvSpPr>
          <p:spPr>
            <a:xfrm>
              <a:off x="6553080" y="2286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46"/>
            <p:cNvSpPr/>
            <p:nvPr/>
          </p:nvSpPr>
          <p:spPr>
            <a:xfrm>
              <a:off x="6781680" y="2286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47"/>
            <p:cNvSpPr/>
            <p:nvPr/>
          </p:nvSpPr>
          <p:spPr>
            <a:xfrm>
              <a:off x="67816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32448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6324480" y="365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50"/>
            <p:cNvSpPr/>
            <p:nvPr/>
          </p:nvSpPr>
          <p:spPr>
            <a:xfrm>
              <a:off x="6324480" y="3200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51"/>
            <p:cNvSpPr/>
            <p:nvPr/>
          </p:nvSpPr>
          <p:spPr>
            <a:xfrm>
              <a:off x="6553080" y="3200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52"/>
            <p:cNvSpPr/>
            <p:nvPr/>
          </p:nvSpPr>
          <p:spPr>
            <a:xfrm>
              <a:off x="655308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53"/>
            <p:cNvSpPr/>
            <p:nvPr/>
          </p:nvSpPr>
          <p:spPr>
            <a:xfrm>
              <a:off x="678168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4"/>
            <p:cNvSpPr/>
            <p:nvPr/>
          </p:nvSpPr>
          <p:spPr>
            <a:xfrm>
              <a:off x="6553080" y="365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55"/>
            <p:cNvSpPr/>
            <p:nvPr/>
          </p:nvSpPr>
          <p:spPr>
            <a:xfrm>
              <a:off x="6781680" y="365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56"/>
            <p:cNvSpPr/>
            <p:nvPr/>
          </p:nvSpPr>
          <p:spPr>
            <a:xfrm>
              <a:off x="6781680" y="3200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58"/>
            <p:cNvSpPr/>
            <p:nvPr/>
          </p:nvSpPr>
          <p:spPr>
            <a:xfrm>
              <a:off x="5562720" y="1752480"/>
              <a:ext cx="2136600" cy="2133720"/>
            </a:xfrm>
            <a:custGeom>
              <a:avLst/>
              <a:gdLst>
                <a:gd name="textAreaLeft" fmla="*/ 0 w 2136600"/>
                <a:gd name="textAreaRight" fmla="*/ 2136960 w 21366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346" h="1344">
                  <a:moveTo>
                    <a:pt x="2" y="432"/>
                  </a:moveTo>
                  <a:lnTo>
                    <a:pt x="434" y="432"/>
                  </a:lnTo>
                  <a:lnTo>
                    <a:pt x="434" y="0"/>
                  </a:lnTo>
                  <a:lnTo>
                    <a:pt x="914" y="0"/>
                  </a:lnTo>
                  <a:lnTo>
                    <a:pt x="914" y="432"/>
                  </a:lnTo>
                  <a:lnTo>
                    <a:pt x="1346" y="432"/>
                  </a:lnTo>
                  <a:lnTo>
                    <a:pt x="1346" y="912"/>
                  </a:lnTo>
                  <a:lnTo>
                    <a:pt x="914" y="912"/>
                  </a:lnTo>
                  <a:lnTo>
                    <a:pt x="914" y="1344"/>
                  </a:lnTo>
                  <a:lnTo>
                    <a:pt x="434" y="1344"/>
                  </a:lnTo>
                  <a:lnTo>
                    <a:pt x="434" y="912"/>
                  </a:lnTo>
                  <a:lnTo>
                    <a:pt x="0" y="910"/>
                  </a:lnTo>
                  <a:lnTo>
                    <a:pt x="2" y="432"/>
                  </a:lnTo>
                  <a:close/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EF4-77FB-4997-B38A-B3A79E13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Backtracking (animation)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62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1442880" y="3962520"/>
            <a:ext cx="758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2096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2438280" y="2514240"/>
            <a:ext cx="914400" cy="1219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2514600" y="39625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352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V="1">
            <a:off x="3657600" y="2057040"/>
            <a:ext cx="8380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657600" y="259092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3434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8"/>
          <p:cNvSpPr/>
          <p:nvPr/>
        </p:nvSpPr>
        <p:spPr>
          <a:xfrm flipH="1">
            <a:off x="3733920" y="2209680"/>
            <a:ext cx="8380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 flipH="1" flipV="1">
            <a:off x="3580920" y="2742840"/>
            <a:ext cx="76212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0"/>
          <p:cNvSpPr/>
          <p:nvPr/>
        </p:nvSpPr>
        <p:spPr>
          <a:xfrm flipH="1">
            <a:off x="2590920" y="2819520"/>
            <a:ext cx="761760" cy="99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 flipV="1">
            <a:off x="3657600" y="365724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43434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4648320" y="3123720"/>
            <a:ext cx="1523880" cy="3812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4724280" y="3733920"/>
            <a:ext cx="1371600" cy="304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0199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1722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8"/>
          <p:cNvSpPr/>
          <p:nvPr/>
        </p:nvSpPr>
        <p:spPr>
          <a:xfrm flipH="1">
            <a:off x="4724280" y="3276720"/>
            <a:ext cx="1524240" cy="380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9"/>
          <p:cNvSpPr/>
          <p:nvPr/>
        </p:nvSpPr>
        <p:spPr>
          <a:xfrm flipH="1" flipV="1">
            <a:off x="4648320" y="3885840"/>
            <a:ext cx="12952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3657240" y="380988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3505320" y="41911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41911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4495680" y="4571640"/>
            <a:ext cx="83844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4"/>
          <p:cNvSpPr/>
          <p:nvPr/>
        </p:nvSpPr>
        <p:spPr>
          <a:xfrm>
            <a:off x="4495680" y="5105520"/>
            <a:ext cx="762120" cy="380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51814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cc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3341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7"/>
          <p:cNvSpPr/>
          <p:nvPr/>
        </p:nvSpPr>
        <p:spPr>
          <a:xfrm flipH="1">
            <a:off x="4572000" y="4724280"/>
            <a:ext cx="8380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E97-446D-4E72-A25E-9A21CADB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erminology I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213" name="Group 43"/>
          <p:cNvGrpSpPr/>
          <p:nvPr/>
        </p:nvGrpSpPr>
        <p:grpSpPr>
          <a:xfrm>
            <a:off x="3733920" y="1752480"/>
            <a:ext cx="4572000" cy="2971800"/>
            <a:chOff x="3733920" y="1752480"/>
            <a:chExt cx="4572000" cy="2971800"/>
          </a:xfrm>
        </p:grpSpPr>
        <p:sp>
          <p:nvSpPr>
            <p:cNvPr id="214" name="Oval 4"/>
            <p:cNvSpPr/>
            <p:nvPr/>
          </p:nvSpPr>
          <p:spPr>
            <a:xfrm>
              <a:off x="3733920" y="31240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>
              <a:off x="6934320" y="175248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6"/>
            <p:cNvSpPr/>
            <p:nvPr/>
          </p:nvSpPr>
          <p:spPr>
            <a:xfrm>
              <a:off x="5791320" y="3352680"/>
              <a:ext cx="30456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"/>
            <p:cNvSpPr/>
            <p:nvPr/>
          </p:nvSpPr>
          <p:spPr>
            <a:xfrm>
              <a:off x="4648320" y="22856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8"/>
            <p:cNvSpPr/>
            <p:nvPr/>
          </p:nvSpPr>
          <p:spPr>
            <a:xfrm>
              <a:off x="5791320" y="22856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9"/>
            <p:cNvSpPr/>
            <p:nvPr/>
          </p:nvSpPr>
          <p:spPr>
            <a:xfrm>
              <a:off x="6934320" y="259056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10"/>
            <p:cNvSpPr/>
            <p:nvPr/>
          </p:nvSpPr>
          <p:spPr>
            <a:xfrm>
              <a:off x="4648320" y="38858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11"/>
            <p:cNvSpPr/>
            <p:nvPr/>
          </p:nvSpPr>
          <p:spPr>
            <a:xfrm>
              <a:off x="5791320" y="38858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2"/>
            <p:cNvSpPr/>
            <p:nvPr/>
          </p:nvSpPr>
          <p:spPr>
            <a:xfrm>
              <a:off x="6934320" y="419076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3"/>
            <p:cNvSpPr/>
            <p:nvPr/>
          </p:nvSpPr>
          <p:spPr>
            <a:xfrm>
              <a:off x="5791320" y="441936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14"/>
            <p:cNvSpPr/>
            <p:nvPr/>
          </p:nvSpPr>
          <p:spPr>
            <a:xfrm>
              <a:off x="6934320" y="34286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8001000" y="175248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8001000" y="289548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8001000" y="342864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8001000" y="396216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3962520" y="3352680"/>
              <a:ext cx="76176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 flipV="1">
              <a:off x="3962520" y="2590560"/>
              <a:ext cx="685800" cy="53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952880" y="2438280"/>
              <a:ext cx="838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 flipV="1">
              <a:off x="6019920" y="1981080"/>
              <a:ext cx="91440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6095880" y="2514240"/>
              <a:ext cx="83844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7238880" y="1904760"/>
              <a:ext cx="762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4952880" y="3581280"/>
              <a:ext cx="83844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952880" y="4038480"/>
              <a:ext cx="838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76920" y="4114440"/>
              <a:ext cx="914400" cy="38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 flipV="1">
              <a:off x="6095880" y="3581280"/>
              <a:ext cx="83844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6095880" y="4114440"/>
              <a:ext cx="83844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1"/>
            <p:cNvSpPr/>
            <p:nvPr/>
          </p:nvSpPr>
          <p:spPr>
            <a:xfrm flipV="1">
              <a:off x="7238880" y="3124080"/>
              <a:ext cx="76212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32"/>
            <p:cNvSpPr/>
            <p:nvPr/>
          </p:nvSpPr>
          <p:spPr>
            <a:xfrm>
              <a:off x="7238880" y="3581280"/>
              <a:ext cx="762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3"/>
            <p:cNvSpPr/>
            <p:nvPr/>
          </p:nvSpPr>
          <p:spPr>
            <a:xfrm>
              <a:off x="7162920" y="3657240"/>
              <a:ext cx="838080" cy="38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34"/>
          <p:cNvSpPr/>
          <p:nvPr/>
        </p:nvSpPr>
        <p:spPr>
          <a:xfrm>
            <a:off x="838080" y="3809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kinds of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914400" y="160020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is composed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44"/>
          <p:cNvGrpSpPr/>
          <p:nvPr/>
        </p:nvGrpSpPr>
        <p:grpSpPr>
          <a:xfrm>
            <a:off x="990720" y="4648320"/>
            <a:ext cx="4038480" cy="459720"/>
            <a:chOff x="990720" y="4648320"/>
            <a:chExt cx="4038480" cy="459720"/>
          </a:xfrm>
        </p:grpSpPr>
        <p:sp>
          <p:nvSpPr>
            <p:cNvPr id="246" name="Oval 37"/>
            <p:cNvSpPr/>
            <p:nvPr/>
          </p:nvSpPr>
          <p:spPr>
            <a:xfrm>
              <a:off x="990720" y="4724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40"/>
            <p:cNvSpPr/>
            <p:nvPr/>
          </p:nvSpPr>
          <p:spPr>
            <a:xfrm>
              <a:off x="1295280" y="4648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(one)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oo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45"/>
          <p:cNvGrpSpPr/>
          <p:nvPr/>
        </p:nvGrpSpPr>
        <p:grpSpPr>
          <a:xfrm>
            <a:off x="990720" y="5105520"/>
            <a:ext cx="4190760" cy="459720"/>
            <a:chOff x="990720" y="5105520"/>
            <a:chExt cx="4190760" cy="459720"/>
          </a:xfrm>
        </p:grpSpPr>
        <p:sp>
          <p:nvSpPr>
            <p:cNvPr id="249" name="Oval 38"/>
            <p:cNvSpPr/>
            <p:nvPr/>
          </p:nvSpPr>
          <p:spPr>
            <a:xfrm>
              <a:off x="990720" y="518184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1"/>
            <p:cNvSpPr/>
            <p:nvPr/>
          </p:nvSpPr>
          <p:spPr>
            <a:xfrm>
              <a:off x="1371600" y="510552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ntern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46"/>
          <p:cNvGrpSpPr/>
          <p:nvPr/>
        </p:nvGrpSpPr>
        <p:grpSpPr>
          <a:xfrm>
            <a:off x="990720" y="5562720"/>
            <a:ext cx="2743200" cy="459720"/>
            <a:chOff x="990720" y="5562720"/>
            <a:chExt cx="2743200" cy="459720"/>
          </a:xfrm>
        </p:grpSpPr>
        <p:sp>
          <p:nvSpPr>
            <p:cNvPr id="252" name="Oval 39"/>
            <p:cNvSpPr/>
            <p:nvPr/>
          </p:nvSpPr>
          <p:spPr>
            <a:xfrm>
              <a:off x="990720" y="56390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42"/>
            <p:cNvSpPr/>
            <p:nvPr/>
          </p:nvSpPr>
          <p:spPr>
            <a:xfrm>
              <a:off x="1371600" y="55627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ea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47"/>
          <p:cNvSpPr/>
          <p:nvPr/>
        </p:nvSpPr>
        <p:spPr>
          <a:xfrm>
            <a:off x="4343400" y="49528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thought of as searching a tree for a particular “goal” leaf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367-FF48-43EA-92D9-6274C9C2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erminology II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n-leaf node in a tree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ne or more other nodes (i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in the tree, other than the root, has exactly o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6"/>
          <p:cNvGrpSpPr/>
          <p:nvPr/>
        </p:nvGrpSpPr>
        <p:grpSpPr>
          <a:xfrm>
            <a:off x="1066680" y="4038480"/>
            <a:ext cx="2667240" cy="1831320"/>
            <a:chOff x="1066680" y="4038480"/>
            <a:chExt cx="2667240" cy="1831320"/>
          </a:xfrm>
        </p:grpSpPr>
        <p:sp>
          <p:nvSpPr>
            <p:cNvPr id="259" name="Oval 6"/>
            <p:cNvSpPr/>
            <p:nvPr/>
          </p:nvSpPr>
          <p:spPr>
            <a:xfrm>
              <a:off x="1447920" y="457200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2819520" y="40384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2819520" y="457200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2819520" y="510516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1752480" y="4724280"/>
              <a:ext cx="10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 flipV="1">
              <a:off x="1676520" y="4267080"/>
              <a:ext cx="114300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1676520" y="4800600"/>
              <a:ext cx="114300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106668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2438280" y="5410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513480" y="3429000"/>
            <a:ext cx="1410840" cy="2517120"/>
            <a:chOff x="6513480" y="3429000"/>
            <a:chExt cx="1410840" cy="2517120"/>
          </a:xfrm>
        </p:grpSpPr>
        <p:sp>
          <p:nvSpPr>
            <p:cNvPr id="269" name="Oval 16"/>
            <p:cNvSpPr/>
            <p:nvPr/>
          </p:nvSpPr>
          <p:spPr>
            <a:xfrm rot="5400000">
              <a:off x="7046280" y="3846240"/>
              <a:ext cx="30492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17"/>
            <p:cNvSpPr/>
            <p:nvPr/>
          </p:nvSpPr>
          <p:spPr>
            <a:xfrm rot="5400000">
              <a:off x="7579440" y="5218200"/>
              <a:ext cx="304920" cy="30420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18"/>
            <p:cNvSpPr/>
            <p:nvPr/>
          </p:nvSpPr>
          <p:spPr>
            <a:xfrm rot="5400000">
              <a:off x="7046280" y="5217840"/>
              <a:ext cx="30492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19"/>
            <p:cNvSpPr/>
            <p:nvPr/>
          </p:nvSpPr>
          <p:spPr>
            <a:xfrm rot="5400000">
              <a:off x="6513120" y="5217840"/>
              <a:ext cx="30492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0"/>
            <p:cNvSpPr/>
            <p:nvPr/>
          </p:nvSpPr>
          <p:spPr>
            <a:xfrm>
              <a:off x="7198920" y="4151160"/>
              <a:ext cx="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1"/>
            <p:cNvSpPr/>
            <p:nvPr/>
          </p:nvSpPr>
          <p:spPr>
            <a:xfrm>
              <a:off x="7275240" y="4074120"/>
              <a:ext cx="38052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 flipH="1">
              <a:off x="6741720" y="4074840"/>
              <a:ext cx="38088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23"/>
            <p:cNvSpPr/>
            <p:nvPr/>
          </p:nvSpPr>
          <p:spPr>
            <a:xfrm>
              <a:off x="6705360" y="342900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24"/>
            <p:cNvSpPr/>
            <p:nvPr/>
          </p:nvSpPr>
          <p:spPr>
            <a:xfrm>
              <a:off x="6629040" y="5486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28"/>
          <p:cNvSpPr/>
          <p:nvPr/>
        </p:nvSpPr>
        <p:spPr>
          <a:xfrm>
            <a:off x="3733920" y="38098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however, we draw our tre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wnwar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root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5:15:17Z</dcterms:created>
  <dc:creator>David Matuszek</dc:creator>
  <dc:description/>
  <dc:language>en-US</dc:language>
  <cp:lastModifiedBy>Cntv</cp:lastModifiedBy>
  <dcterms:modified xsi:type="dcterms:W3CDTF">2011-03-01T14:17:41Z</dcterms:modified>
  <cp:revision>12</cp:revision>
  <dc:subject/>
  <dc:title>Backtracking</dc:title>
</cp:coreProperties>
</file>